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6BC-F81C-4890-927D-6D83662B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E32-F69B-4146-A6D0-F4B5935D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B9B-447D-43AB-894E-D86D6D39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41B-5C4B-4D58-AB26-59D51FBA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E8D-47BA-4298-8B59-6350CDD6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1E0-4D18-4666-8B60-57FEA94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991-6F83-4E4D-89CE-C233A4B2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264-D955-4DBC-8531-E1ADBCA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C7B-4740-452A-8795-C78B87F7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467-97D7-4114-9382-499533D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E6E-9EF7-4554-9567-1B73E8E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F55-D2EA-4A0E-8291-2F293AA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A7D1-E6D1-455A-9B42-56FF79F4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Bog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mbian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mbian woman usually wear flowery shirts and long ski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mbian men usually wear white shirts and white  pants with either a white or beige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441520" y="1135080"/>
            <a:ext cx="4260960" cy="4181400"/>
            <a:chOff x="2441520" y="1135080"/>
            <a:chExt cx="4260960" cy="4181400"/>
          </a:xfrm>
        </p:grpSpPr>
        <p:sp>
          <p:nvSpPr>
            <p:cNvPr id="46" name="_s5159"/>
            <p:cNvSpPr/>
            <p:nvPr/>
          </p:nvSpPr>
          <p:spPr>
            <a:xfrm flipH="1" flipV="1">
              <a:off x="3724200" y="2629800"/>
              <a:ext cx="42408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8"/>
            <p:cNvSpPr/>
            <p:nvPr/>
          </p:nvSpPr>
          <p:spPr>
            <a:xfrm>
              <a:off x="2755800" y="1747800"/>
              <a:ext cx="108612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] Drink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cha,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coho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ve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und in the city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7"/>
            <p:cNvSpPr/>
            <p:nvPr/>
          </p:nvSpPr>
          <p:spPr>
            <a:xfrm flipH="1">
              <a:off x="3516480" y="3425760"/>
              <a:ext cx="5270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6"/>
            <p:cNvSpPr/>
            <p:nvPr/>
          </p:nvSpPr>
          <p:spPr>
            <a:xfrm>
              <a:off x="2441520" y="3125520"/>
              <a:ext cx="1085760" cy="10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d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 usual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t Aborrajado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ich is deep fri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ntains with chees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5"/>
            <p:cNvSpPr/>
            <p:nvPr/>
          </p:nvSpPr>
          <p:spPr>
            <a:xfrm flipH="1">
              <a:off x="4103640" y="3794040"/>
              <a:ext cx="23328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4"/>
            <p:cNvSpPr/>
            <p:nvPr/>
          </p:nvSpPr>
          <p:spPr>
            <a:xfrm>
              <a:off x="3324240" y="4230360"/>
              <a:ext cx="1085760" cy="108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sic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 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len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 Porr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3"/>
            <p:cNvSpPr/>
            <p:nvPr/>
          </p:nvSpPr>
          <p:spPr>
            <a:xfrm>
              <a:off x="4807080" y="3794040"/>
              <a:ext cx="23652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2"/>
            <p:cNvSpPr/>
            <p:nvPr/>
          </p:nvSpPr>
          <p:spPr>
            <a:xfrm>
              <a:off x="4737240" y="422892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cing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walt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39"/>
            <p:cNvSpPr/>
            <p:nvPr/>
          </p:nvSpPr>
          <p:spPr>
            <a:xfrm>
              <a:off x="5100480" y="3425760"/>
              <a:ext cx="52884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38"/>
            <p:cNvSpPr/>
            <p:nvPr/>
          </p:nvSpPr>
          <p:spPr>
            <a:xfrm>
              <a:off x="5616720" y="312408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 h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republic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7"/>
            <p:cNvSpPr/>
            <p:nvPr/>
          </p:nvSpPr>
          <p:spPr>
            <a:xfrm flipV="1">
              <a:off x="4995720" y="2628360"/>
              <a:ext cx="42408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36"/>
            <p:cNvSpPr/>
            <p:nvPr/>
          </p:nvSpPr>
          <p:spPr>
            <a:xfrm>
              <a:off x="5302080" y="1747800"/>
              <a:ext cx="108612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a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anis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35"/>
            <p:cNvSpPr/>
            <p:nvPr/>
          </p:nvSpPr>
          <p:spPr>
            <a:xfrm flipV="1">
              <a:off x="4572000" y="22208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34"/>
            <p:cNvSpPr/>
            <p:nvPr/>
          </p:nvSpPr>
          <p:spPr>
            <a:xfrm>
              <a:off x="4029120" y="113508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5%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 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m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tho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26"/>
            <p:cNvSpPr/>
            <p:nvPr/>
          </p:nvSpPr>
          <p:spPr>
            <a:xfrm>
              <a:off x="4029120" y="276372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om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1:51:07Z</dcterms:created>
  <dc:creator>teacher</dc:creator>
  <dc:description/>
  <dc:language>en-US</dc:language>
  <cp:lastModifiedBy>teacher</cp:lastModifiedBy>
  <dcterms:modified xsi:type="dcterms:W3CDTF">2010-05-06T15:11:13Z</dcterms:modified>
  <cp:revision>3</cp:revision>
  <dc:subject/>
  <dc:title>Colombia</dc:title>
</cp:coreProperties>
</file>